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28713-CBD7-4527-8F26-CC4CA2BBB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B4195-3739-4901-B890-06BF0474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D40A2-4682-4659-8D04-FB0142A34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D6A26-9E7F-411E-9D8F-F363E4B51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AEAF7-1ABA-4BA1-8198-CEE8EBBCF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7715-33CF-4AD2-861C-61F778C3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B1471-F809-4240-8FC0-82A708FE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1A01-B472-48D0-B9E3-7D07FC20F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3F9FF-FB7C-402D-B7F8-DEA51195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D9231-FA89-4E6D-8D00-9A3F43AF0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22E62-E128-4F3E-B23B-11B2A54F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F652F-ED30-4266-8679-BBCD484B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70FB-3CAE-4F9E-93B9-26481110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9340-FFE3-4A75-B529-EC2A4282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9AA7-3039-452F-A5F3-975D9B9A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C8124-98B0-4A28-B3AB-F0352C77E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5568D-ACDA-482F-B0CF-0487991F1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6B9DA-62D4-4C67-B46D-08C96734E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5DD14-92B5-4094-86AE-9C1F5F12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C75F7-80EC-4EAC-B6C6-1F464904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C4D55-BC99-4205-B7B1-9346D6B0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29659-CE02-4545-B59F-9F411A5B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4D7E3-1A88-423F-AD6F-2E6E123A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452C5-ADF8-4122-B4E8-3A184631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69CA-AA11-4069-A980-CC1976B75A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3AD5-C626-457E-9405-97D2A57EDF3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Serious Messenger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041120" y="3024360"/>
            <a:ext cx="6986520" cy="26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Serious about delivering messag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Kevin Scroggi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Corey Faibis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ckgroun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ully-featured instant messaging client designed in Jav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able of running on multiple platfor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ully-interactive and user-friendly GU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ustom-designed back-end protocol syste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ent Feat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r Inform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rname, Nickname, Status, Contacts, et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r Profi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ame, E-Mail, Location, Gender, Birthday, et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ustomizable GUI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bil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dd/Delete/Block Contac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roup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nd Files (Time Permitting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erver Featu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Garamond"/>
              </a:rPr>
              <a:t>Authenticates various client chang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(ie. login, password, adding contacts, etc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Garamond"/>
              </a:rPr>
              <a:t>Connecting Clien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Garamond"/>
              </a:rPr>
              <a:t>Client Information Storag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Data stored using SQL Server 200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ffffff"/>
                </a:solidFill>
                <a:latin typeface="Garamond"/>
              </a:rPr>
              <a:t>Interactive GUI for monitoring/debuggi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Objectiv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reliable, customizable, user-friendly, fully-featured instant messaging cli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xecution Pla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95280" y="1557360"/>
          <a:ext cx="8424720" cy="5084640"/>
        </p:xfrm>
        <a:graphic>
          <a:graphicData uri="http://schemas.openxmlformats.org/drawingml/2006/table">
            <a:tbl>
              <a:tblPr/>
              <a:tblGrid>
                <a:gridCol w="5256360"/>
                <a:gridCol w="3168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Task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mpletion Da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acket Syst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o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rotocol Desig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o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atabase Management Syst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o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raphical User Interface (Server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on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etworking Syst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vember 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raphical User Interface (Client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Half-Done (Nov 14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xtensive Test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November 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xtra Features + Finishing Touches (Time Permitting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December 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6T21:09:36Z</dcterms:created>
  <dc:creator>Kevin Scroggins</dc:creator>
  <dc:description/>
  <dc:language>en-US</dc:language>
  <cp:lastModifiedBy>Kevin Scroggins</cp:lastModifiedBy>
  <dcterms:modified xsi:type="dcterms:W3CDTF">2010-11-02T13:00:01Z</dcterms:modified>
  <cp:revision>5</cp:revision>
  <dc:subject/>
  <dc:title>Serious Messenger</dc:title>
</cp:coreProperties>
</file>